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22218"/>
        <c:axId val="88219019"/>
      </c:barChart>
      <c:catAx>
        <c:axId val="43522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19019"/>
        <c:crosses val="autoZero"/>
        <c:auto val="1"/>
        <c:lblAlgn val="ctr"/>
        <c:lblOffset val="100"/>
        <c:noMultiLvlLbl val="0"/>
      </c:catAx>
      <c:valAx>
        <c:axId val="88219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22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CC7-19F5-4559-BB79-A5B5B9FA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57D-6669-4E57-AFEE-20E52805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7CA-B08C-4F9B-9EB8-1135B151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DA3-2FAF-4DA8-AD5C-6B7134C8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108-6F1A-4BF9-9030-B36ACFDB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212-B14F-49C9-BBE4-6B05696B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A86-002C-4B5E-8E23-E359CCC1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D1F-CDF8-4CCC-8D9E-9F37C17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1D1-D0B1-4415-81A4-6F5D21EE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CCB-3A9B-4B7E-B03A-51F815A2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446-CADD-4811-A82A-C4B2D44A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45A-8C54-4BC1-9A6B-ABE4C402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C6E6E-128F-41A4-B8A9-E1094C7BE4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