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470151"/>
        <c:axId val="79013366"/>
      </c:barChart>
      <c:catAx>
        <c:axId val="634701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013366"/>
        <c:crosses val="autoZero"/>
        <c:auto val="1"/>
        <c:lblAlgn val="ctr"/>
        <c:lblOffset val="100"/>
        <c:noMultiLvlLbl val="0"/>
      </c:catAx>
      <c:valAx>
        <c:axId val="790133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4701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5630-5DFD-4C53-9E5B-D00C8E84E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C3DA-52BF-45E1-820E-5DD0666B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3F0E-519C-461C-AEC0-ED3D561CD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C8DF-419B-4FAC-8106-B15D8000C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71B9-70B7-40F5-B29A-B9637E6E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2BC2-D340-4FD1-9F0C-898FB095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B5A6-6523-41D3-99BA-F9996FEC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CC36-078D-44DE-81BA-3E197E4E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2DD5-398F-4F97-8CD4-F4060E72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CCAB-33A2-4146-8245-E123AF69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C8D1-2CC5-4810-8D75-5DEB62DE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D1C3-6FCD-4851-90E1-5FBF2C69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ABDF2-D712-4DAA-8D77-63A9842F14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