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66937"/>
        <c:axId val="3299388"/>
      </c:barChart>
      <c:catAx>
        <c:axId val="88666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9388"/>
        <c:crosses val="autoZero"/>
        <c:auto val="1"/>
        <c:lblAlgn val="ctr"/>
        <c:lblOffset val="100"/>
        <c:noMultiLvlLbl val="0"/>
      </c:catAx>
      <c:valAx>
        <c:axId val="3299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66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437-8105-4F1A-AAB6-D7A7C73E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58F-CD47-406A-BD47-A9CF582F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74D-8814-4CFD-8C8B-32F89E17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B62-4D87-4995-8843-68613E45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D05-4571-4DAD-9A5C-868F3BE1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8ED-8D81-45C8-B2B7-57AB03CE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CFE-2F47-4EC2-8836-E060BE00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434-5DF8-4610-8D45-28D5161F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D8A-F190-4CC7-8C1B-A21A98AE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694-B81B-4F1A-A554-969C4ACF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0B1-9B3B-4DE9-9573-C0BC6396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579-6CD2-4504-9091-5A58BB10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72B3D-747B-44BE-8C3C-00DF3C157A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