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28058"/>
        <c:axId val="58163840"/>
      </c:barChart>
      <c:catAx>
        <c:axId val="57028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3840"/>
        <c:crosses val="autoZero"/>
        <c:auto val="1"/>
        <c:lblAlgn val="ctr"/>
        <c:lblOffset val="100"/>
        <c:noMultiLvlLbl val="0"/>
      </c:catAx>
      <c:valAx>
        <c:axId val="58163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28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64A-64AC-4920-BC0F-F358FEFD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55C-6607-4DCC-8588-906F0D47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C6B-BBAD-41C0-99DA-E635E1AE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EA7-2923-46C8-83CB-F97C6D54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BD1-FCD7-4BC9-8686-D52F9E0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56E-D12B-485E-A1D4-7E96D51C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B3E-BEEB-4C5B-AEC0-23A2D26C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EF8-5DCF-4255-B4E8-27D5F899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BA0-458F-4104-96C5-14053AE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FA7-679A-4101-AB2E-7C0F658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AA2-2062-462F-B7A6-7D283BB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A75-BB24-4241-ADC5-93EF6E9F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1B1C4-95F2-45DA-8DB7-D35C96B6B3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