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71677"/>
        <c:axId val="73546247"/>
      </c:barChart>
      <c:catAx>
        <c:axId val="90571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46247"/>
        <c:crosses val="autoZero"/>
        <c:auto val="1"/>
        <c:lblAlgn val="ctr"/>
        <c:lblOffset val="100"/>
        <c:noMultiLvlLbl val="0"/>
      </c:catAx>
      <c:valAx>
        <c:axId val="73546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1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9DF-9EB8-47DC-BB52-0A1BCC21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0CC-12D8-4E3E-A48E-9F952962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1D4-40F3-4176-9841-8DF691AB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8B0-DDF6-4173-B865-7A5D4DA3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90A-B39E-4575-8E78-E4F95CE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BF3-A6C5-462C-A00A-0ABA377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376-C02A-47D3-B7F2-71E9200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3D4-2F6E-4FEE-B1D0-5496F00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28C-D1E2-4547-BC83-BB51DF1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7A2-42CE-4B6A-B794-6253355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E87-A298-468E-A2F7-F18C5933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98C-27D9-4A0F-97CB-060192B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F94B5-939B-4081-B640-8FA957ED1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