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54481"/>
        <c:axId val="13689334"/>
      </c:barChart>
      <c:catAx>
        <c:axId val="71454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89334"/>
        <c:crosses val="autoZero"/>
        <c:auto val="1"/>
        <c:lblAlgn val="ctr"/>
        <c:lblOffset val="100"/>
        <c:noMultiLvlLbl val="0"/>
      </c:catAx>
      <c:valAx>
        <c:axId val="13689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54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BC6-1493-495F-B7AF-F9E72488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B47-D38D-45AF-9383-E483D566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AC2-5724-4635-809C-79177A17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B5A-54FE-48DC-B40E-5CB5D98F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34B-B020-4EEA-B83E-352FFB3C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701-2DDA-4F48-B408-BA32D4C7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960-D79B-4D22-B501-1B907F0D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1CC-3F44-44CF-B9B1-202E9DBF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22E-3363-4FEF-8615-21F3BB12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E7F-877A-4021-8211-FA030CA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522-FAAE-4A39-8880-4603E48C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CCF-3AA5-41DC-831F-D50B36ED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73E19-237B-4DFD-82C8-DFEDFD99E1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