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211252"/>
        <c:axId val="49018114"/>
      </c:barChart>
      <c:catAx>
        <c:axId val="852112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018114"/>
        <c:crosses val="autoZero"/>
        <c:auto val="1"/>
        <c:lblAlgn val="ctr"/>
        <c:lblOffset val="100"/>
        <c:noMultiLvlLbl val="0"/>
      </c:catAx>
      <c:valAx>
        <c:axId val="490181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2112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E7B8-6E74-4806-84BC-889D139E0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9A85-1935-4708-9A11-8E9830DD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3B74-6AFC-4B6D-81AB-276985FB6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762-000B-43A9-8A69-9B8A666D1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C4B5-867C-4A2B-956C-83D71E73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E295-B5C7-477C-B572-B6723F754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51E-CA72-4CC2-A55A-2EE15A22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000F-FBC6-4177-A921-1110BFDA6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E8AD-EB55-4856-BD4F-A9A398FF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93B0-350B-492B-AF54-7599B920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371-6EAD-469E-A4DE-4C4A438F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FF55-7E7B-45E3-B43F-B059A16A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535CC-4A9D-41FC-A63A-AD84573FC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